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E44-C9B3-49D4-BC88-BB8B0079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E54-BC9F-4346-80FB-9B62B46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C89-4F31-4361-BC1F-86BB4A69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646-45A8-4A16-A89A-0937BDDB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AD9-D47E-49D5-9E26-47CE6F4C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C77-C85D-4F1B-BD46-E42D2301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FFF-CC0B-4F1C-A0FC-6A110962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2A6-7849-4728-8161-F765D70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7F5-713A-47DA-A539-2104DF73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A88-6A03-4BE5-B9FA-76CDAAC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DBA-2D50-4AAE-9FDC-A67BBF3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7DF-C189-405C-9C1B-0797075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762C-FBFC-4890-B763-3F6A71711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343400" y="-60480"/>
            <a:ext cx="0" cy="691848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38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(G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943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On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e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9144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(So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124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124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124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Comic Sans MS"/>
              </a:rPr>
              <a:t>Mix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190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1600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4800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4191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438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Comic Sans MS"/>
              </a:rPr>
              <a:t>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2362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16765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666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343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3886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4419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90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002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600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4800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4191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4343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4114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0080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2514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029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2590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1981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1752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8168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1676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765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2971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1523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44956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A mixture of a compound and an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4343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4114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2514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24480" y="5029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10280" y="4876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76920" y="2590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1981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1752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8168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1676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4280" y="2971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1523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752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1828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n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43434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3886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47242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4724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3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0" y="3352680"/>
            <a:ext cx="9144000" cy="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4382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895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7242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6 Atoms which happen to be of 3 different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1752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060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4343400" y="-60480"/>
            <a:ext cx="0" cy="691848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is one likes to go round in pairs as a gas </a:t>
            </a:r>
            <a:r>
              <a:rPr b="0" lang="en-GB" sz="2800" spc="-1" strike="noStrike">
                <a:solidFill>
                  <a:srgbClr val="cc0000"/>
                </a:solidFill>
                <a:latin typeface="Trebuchet MS"/>
              </a:rPr>
              <a:t>(molec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nother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 mixture of two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286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876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95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181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518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4724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562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2666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2895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2743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358128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Yes, it also happens to be 2 atoms joined together but we don’t call it “2 atoms joined together” we say it is on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do we call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2057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20574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 Molecule of a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1752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5257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4495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191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572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4572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4267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472428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2 molecules of a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33720" y="3049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What about when all the atoms are stuck together like in a solid el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23623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52680" y="2209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38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4495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4572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44197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09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24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23623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2209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8640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38680" y="2286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95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572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4419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552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133720" y="3049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is is just a load of atoms in a solid element, it is not a big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23623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0040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52680" y="2209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38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0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4495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4792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4572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44197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180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76920" y="2286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23623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48520" y="2971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00800" y="2209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2286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95680" y="3733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45720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33920" y="38098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7280" y="4419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9920" y="3657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44956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37339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30492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Finally, just to confuse you even more, science teachers like talking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43000" y="1981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rebuchet MS"/>
              </a:rPr>
              <a:t>P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292248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Particle is just a fancy name for individual things.  These individual things could be atoms, molecules, lumps of soil, grains of sand, bits of metal.  It doesn’t matter because particle is just a general word which is used when we don’t (or can’t) want to be exact about the type of things being descri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219320" y="30492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 good example of when science teachers use the word particle is when talking about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205740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Air is a mixture of elements such as oxygen, argon and nitrogen mixed with compounds such as 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41148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4876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4876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152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1814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943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15200" y="5486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4419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7220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191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586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5486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5486400"/>
            <a:ext cx="990720" cy="990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9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295280" y="5335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Some of the elements in air go around as single atoms (such as arg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800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5562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86600" y="4800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24680" y="838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28954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Or as molecules such as oxygen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495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Compounds go around as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8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4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9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8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3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8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295280" y="1676520"/>
            <a:ext cx="632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at’s why we talk about particles because it saves the bother of describing exactly what sort of things the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4343400" y="-60480"/>
            <a:ext cx="0" cy="691848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his is not a mixture, it is a COMPOUND of two different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049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This is just a mixture of two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286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257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181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486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3886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18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724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581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1981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5562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657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715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76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029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638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6324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352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4267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4495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648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4267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191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2666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352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2670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4495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46483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4267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057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3352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895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3657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809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40384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191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Trebuchet MS"/>
              </a:rPr>
              <a:t>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33720" y="3049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Element, Compound or Mix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Comic Sans MS"/>
              </a:rPr>
              <a:t>Mix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2590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505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819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3276720"/>
            <a:ext cx="533520" cy="53316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19810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9:21:55Z</dcterms:created>
  <dc:creator/>
  <dc:description/>
  <dc:language>en-US</dc:language>
  <cp:lastModifiedBy>BS</cp:lastModifiedBy>
  <dcterms:modified xsi:type="dcterms:W3CDTF">2003-01-29T16:55:52Z</dcterms:modified>
  <cp:revision>12</cp:revision>
  <dc:subject/>
  <dc:title>PowerPoint Presentation</dc:title>
</cp:coreProperties>
</file>